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478-3F28-4BE4-97DF-86C558AF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003-8E3C-4C5B-83AB-A31E89F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38E-53CB-4055-9B1E-C8D020D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A0E-51A2-4393-B733-DED84D60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F995-7EA2-483A-9FDC-5C636F56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987-D9ED-4E21-AFDF-E88CBD8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37F3-8AB2-45CE-98E1-977F5E1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E5DE-ED7F-4E4F-89BD-D3B09B0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021-2AC1-493D-B80E-2F3432B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7C7-4729-454F-948E-591E5064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0812-5496-413E-B511-89578DA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591-EE36-47E5-9DA5-6295E8D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1C6-4FCF-4894-9035-DF8AFBD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ECD-C9F6-4A49-AC24-85BA6DE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8AB5-EEE9-46D8-A687-C65B8D57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9443-B42D-4758-ABC8-3A6C4F39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9E7-44FA-4164-A94B-BBB260B8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BD5-D904-4BF7-841A-329B893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D45-4F08-4BC5-9276-84158EE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4BA-857F-40B3-9B0A-E66389FD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A80-6C7A-4E41-B0A3-B3ABEC8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148-9B62-4468-BAA1-37F0AD3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FF9-84B8-4A02-977C-944C08F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A35-56E9-4BEC-A5FA-8CC4392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1027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-9360" y="4489560"/>
              <a:ext cx="5754600" cy="2368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3817800"/>
              <a:ext cx="8164440" cy="3019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3146400"/>
              <a:ext cx="9144000" cy="3691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60600"/>
              <a:ext cx="9144000" cy="24973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0" y="1793880"/>
              <a:ext cx="9144000" cy="15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-20520"/>
              <a:ext cx="9144000" cy="1682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-20520"/>
              <a:ext cx="8388360" cy="1068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0" y="-20520"/>
              <a:ext cx="4578480" cy="453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F63-486D-4901-87FE-080E1D6AC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B10-36DC-4666-8F97-DD1DB027D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ument Based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DB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Documents and Settings\amckellin\Application Data\Microsoft\Media Catalog\Downloaded Clips\cla5\j0412754.wmf"/>
          <p:cNvPicPr/>
          <p:nvPr/>
        </p:nvPicPr>
        <p:blipFill>
          <a:blip r:embed="rId1"/>
          <a:stretch/>
        </p:blipFill>
        <p:spPr>
          <a:xfrm>
            <a:off x="838080" y="3429000"/>
            <a:ext cx="17082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mckellin\Application Data\Microsoft\Media Catalog\Downloaded Clips\clad\j0433797.png"/>
          <p:cNvPicPr/>
          <p:nvPr/>
        </p:nvPicPr>
        <p:blipFill>
          <a:blip r:embed="rId2"/>
          <a:stretch/>
        </p:blipFill>
        <p:spPr>
          <a:xfrm>
            <a:off x="64771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 Document Based Ques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BQ, or ‘document based questions’, are questions that focuses around one or more documents. The documents can be a graph, cartoon, short excerpt, picture, etc, basically anything that you can get information fr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amckellin\Application Data\Microsoft\Media Catalog\Downloaded Clips\clad\j0434859.png"/>
          <p:cNvPicPr/>
          <p:nvPr/>
        </p:nvPicPr>
        <p:blipFill>
          <a:blip r:embed="rId1"/>
          <a:stretch/>
        </p:blipFill>
        <p:spPr>
          <a:xfrm>
            <a:off x="358128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a document based question is to assess your ability to formulate (or figure out) and support an answer based on documentary evid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amckellin\Application Data\Microsoft\Media Catalog\Downloaded Clips\cla9\j0424230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540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eaking Down DBQ’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some tasks you could be asked to do in a DBQ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reak a topic down into separate parts and discuss each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ake judgments. Evaluate comparative wo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xplain the exact meaning, specific to the course o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detailed account, listing characteristics, qualities and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u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rgue the pros and cons of an iss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n opinion or cite the opinion of an exp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ust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concrete exam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brief, condensed account, including conclus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documents, analyz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tern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eriod 1000-1450. In addition, identify possib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consequence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is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question asking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re there recognizable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What are the consequences of cont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4:58Z</dcterms:created>
  <dc:creator>teacher</dc:creator>
  <dc:description/>
  <dc:language>en-US</dc:language>
  <cp:lastModifiedBy>IT User</cp:lastModifiedBy>
  <dcterms:modified xsi:type="dcterms:W3CDTF">2011-05-23T16:28:05Z</dcterms:modified>
  <cp:revision>13</cp:revision>
  <dc:subject/>
  <dc:title>Document Based Questions</dc:title>
</cp:coreProperties>
</file>